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B386-7D6C-4274-A505-9558F7326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5F8F-DB39-4B0B-BC02-8229CC27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7295-D6CD-46CE-963F-8A0F43BB3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FEB5-83AF-46E6-A111-560139478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E9DE-D9BB-4C5A-A073-3F472825D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1DDC-25AE-46B8-83D4-58173BE8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4719B-089E-4BC4-A735-DD1C9E87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52E0-2127-45EC-8AA5-402F462E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9D4E-B7AD-4BBC-8A57-BCA7E061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9D88-BAB6-464B-A690-F71961FF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00B1-CE69-4E3E-861A-BDEEAC2A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450B-BB48-4F62-B1D9-7510490C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6B4F-C0E7-47C8-BBEC-1136F47F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8D60-C9CF-4F0E-AA39-EC10B875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47F77-513F-45B4-9031-1991F5AE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4DA6A-3C61-405F-BD79-BD6BD4712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ADF2-9E3C-494E-ADE8-FFB23C106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9BE6-1709-4E2E-9B85-745D0624A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0709-2F50-4B4A-A1A1-571CD15A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6590-33EE-4475-84C9-71CDB0F9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B382-F4D2-4B6B-BB15-CC7B45C1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CF18-CDB3-4342-9503-D719C2C3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167C-1FC8-4148-9517-7329B6F1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C5B4-CBEE-4133-817B-F73EAA50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B45B-E123-4C47-BEE4-5D7B3CC1CE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B2E2-8CF1-4BE9-A6C0-0FC75088B2D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48580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ducation Policy Reforms in SEE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IAG, Meeting on Social Sector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ussels, 22 January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na Arnho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Bank, ECSH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cy fr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gacy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gration with E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gional disparities and cohe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41240" y="3603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gacy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 need f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ity catch-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orm curriculum (especially secondary and tertiar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ficiency of public sp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onalize school network (demography, urban – rur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nd more on non-sal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k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ru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Reforming university entrance exa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ngthen accoun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le of private se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trengthen regulatory function of the st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e of PPP in tertiary education, but also voc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yond service delivery, appropriate role of private sector in social sector financing e.g. student loan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reliab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llection, including for benchmarking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 Integration/Lisbon 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86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lls/productivity – higher and vocational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 Higher Education Area/Bolog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long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parities: regional, income and ethn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86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, especiall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aps in service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ing service delivery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al grou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 minorities, disabled, special needs, orph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livery of services to improve quality but without adversely affecting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unt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both local and nationa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3T19:36:22Z</dcterms:created>
  <dc:creator>wb172538</dc:creator>
  <dc:description/>
  <dc:language>en-US</dc:language>
  <cp:lastModifiedBy>WB303893</cp:lastModifiedBy>
  <dcterms:modified xsi:type="dcterms:W3CDTF">2008-01-18T10:42:39Z</dcterms:modified>
  <cp:revision>24</cp:revision>
  <dc:subject/>
  <dc:title>TITLE </dc:title>
</cp:coreProperties>
</file>